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hyperlink" Target="file:///../Resources/Ch%2008_Res.pdf" TargetMode="External"/><Relationship Id="rId6" Type="http://schemas.openxmlformats.org/officeDocument/2006/relationships/hyperlink" Target="file:///../Assessments/Ch_08_Assessment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hyperlink" Target="file:///../Resources/Ch%2008_Res.pdf" TargetMode="External"/><Relationship Id="rId12" Type="http://schemas.openxmlformats.org/officeDocument/2006/relationships/hyperlink" Target="file:///../Assessments/Ch_08_Assessment.ppt" TargetMode="External"/><Relationship Id="rId13" Type="http://schemas.openxmlformats.org/officeDocument/2006/relationships/hyperlink" Target="http://www.glencoe.com/" TargetMode="External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rId5"/>
          </p:cNvPr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rId6"/>
          </p:cNvPr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6280" y="6429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082520"/>
            <a:ext cx="35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Leadership in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920" y="22971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6280" y="2703600"/>
            <a:ext cx="207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Leadership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1"/>
          </p:cNvPr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2"/>
          </p:cNvPr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3"/>
          </p:cNvPr>
          <p:cNvSpPr/>
          <p:nvPr/>
        </p:nvSpPr>
        <p:spPr>
          <a:xfrm>
            <a:off x="6118200" y="443880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6165720" y="5992920"/>
            <a:ext cx="220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19000" y="1754280"/>
            <a:ext cx="7223400" cy="4363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78160" y="3411360"/>
            <a:ext cx="1955880" cy="1159200"/>
          </a:xfrm>
          <a:prstGeom prst="ellipse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s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89320" y="25239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cr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46480" y="425448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97520" y="425448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-Re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Autocratic Leadership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13532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der with an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autocratic leade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yle assumes that others must have decisions made 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autocratic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adership style in which one person runs everything and makes all decisions without consulting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Autocratic Leadership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37252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cratic leaders may find that many people do not like to work 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yle of leadership may be useful for firefighters, combat troops, and police offic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mocratic Leadership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0400" y="2158560"/>
            <a:ext cx="4298760" cy="34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mocratic leade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ew ideas are encoura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democratic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yle in which managers work with employees to mak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mocratic Leadership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400" y="2158560"/>
            <a:ext cx="8545320" cy="34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democratic leadership, the leader still makes the final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mocratic leader assumes that people have ideas and are inclined to contrib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Free-Reign Leadership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400" y="2158560"/>
            <a:ext cx="4135320" cy="34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name for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free-reign leade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ands-off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32360" y="2575080"/>
            <a:ext cx="38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free-reign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adership style that requires the leader to set goals for managers and employees and then leave them alone to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Free-Reign Leadership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400" y="2158560"/>
            <a:ext cx="413532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-rein leaders have no problem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leg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32360" y="2575080"/>
            <a:ext cx="38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dele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managers and employees the power to run things and mak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760" y="4141800"/>
            <a:ext cx="4135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-rein leaders are involved in broader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4960" y="2038320"/>
          <a:ext cx="8146800" cy="3895920"/>
        </p:xfrm>
        <a:graphic>
          <a:graphicData uri="http://schemas.openxmlformats.org/drawingml/2006/table">
            <a:tbl>
              <a:tblPr/>
              <a:tblGrid>
                <a:gridCol w="814680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Delega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417840"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1687"/>
                        </a:spcBef>
                        <a:buSzPct val="102833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Managers do not have time to do everything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1687"/>
                        </a:spcBef>
                        <a:buSzPct val="102833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Managers can focus on more important work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1687"/>
                        </a:spcBef>
                        <a:buSzPct val="102833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Employees have more ownership of the production process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1687"/>
                        </a:spcBef>
                        <a:buSzPct val="102833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Employees have a chance to develop their own potential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Leadership in Team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21488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anies put workers in </a:t>
            </a:r>
            <a:br>
              <a:rPr sz="3200"/>
            </a:b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self-managed te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self-managed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roups that supervise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Self-Managed Team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the self-managed team approach started in Japan and came to the United States in the 198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95480" y="20970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Read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93680" y="2565360"/>
            <a:ext cx="711216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escribe the autocratic, democratic, and free-reign leadership sty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elf-managed team approach and the two ways in which such an approach is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Self-Managed Team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elf-managed team, the leader is a team player rather than a b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 learns a range of jobs instead of jus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82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The Organization of the Self-Managed Team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managed teams are organized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760" y="3517920"/>
            <a:ext cx="866916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spcBef>
                <a:spcPts val="28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m selects on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28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eam member employs specialized skills, but there is no team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82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The Organization of the Self-Managed Team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ory behind self-managed teams is that the whole is greater than the sum of its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51040" y="2050920"/>
          <a:ext cx="7821360" cy="4035600"/>
        </p:xfrm>
        <a:graphic>
          <a:graphicData uri="http://schemas.openxmlformats.org/drawingml/2006/table">
            <a:tbl>
              <a:tblPr/>
              <a:tblGrid>
                <a:gridCol w="7821360"/>
              </a:tblGrid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d94f"/>
                          </a:solidFill>
                          <a:latin typeface="Arial"/>
                        </a:rPr>
                        <a:t>Advantage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f Self-Managed Te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2172600"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y are more goal-oriented than task-oriente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eam members have a chance to learn each other’s job and obtain new skill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eam members learn to participate and cooperat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Self-managed teams learn to  solve their own problem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8288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d94f"/>
                          </a:solidFill>
                          <a:latin typeface="Arial"/>
                        </a:rPr>
                        <a:t>Disadvantage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f Self-Managed Te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907560"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Some people do not have the skills and initiative to work together productive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2040" y="1200240"/>
            <a:ext cx="8491680" cy="5024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3408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In which situations is an autocratic style of leadership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03320" y="333684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when dealing with unmotivated or unskilled employees or in emergency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2040" y="1200240"/>
            <a:ext cx="8491680" cy="5024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3408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Why should a manager delegate author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3320" y="325296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when a job is time consuming, requires special skills, or to give workers more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2040" y="1200240"/>
            <a:ext cx="8491680" cy="5024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03320" y="236700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3408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Name a similarity and a difference between free-reign management and self-managed t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03320" y="3684600"/>
            <a:ext cx="71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Both give freedom to the employee. Free-rein management involves individuals working alone. Several people are involved in a </a:t>
            </a:r>
            <a:br>
              <a:rPr sz="2400"/>
            </a:b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self-managed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111720" y="5951520"/>
            <a:ext cx="2314800" cy="498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52120" y="2635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93680" y="2565360"/>
            <a:ext cx="69278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 differ in the leadership styles that they use. Autocratic, democratic, and free-reign leadership are common styles. The leadership style that should be used depends on the work to be done and the type of worker being man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97280" y="20970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3680" y="2565360"/>
            <a:ext cx="69217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 i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96560" y="2097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3680" y="3354480"/>
            <a:ext cx="3538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autocratic</a:t>
            </a:r>
            <a:br>
              <a:rPr sz="2400"/>
            </a:b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957400"/>
            <a:ext cx="5307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adership style in which one person runs everything and makes all the decisions without consulting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96560" y="2097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3680" y="3337200"/>
            <a:ext cx="3538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democratic</a:t>
            </a:r>
            <a:br>
              <a:rPr sz="2400"/>
            </a:b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3141720"/>
            <a:ext cx="53071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adership style in which managers work with employees to mak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96560" y="2097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3680" y="3337200"/>
            <a:ext cx="3538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free-reign</a:t>
            </a:r>
            <a:br>
              <a:rPr sz="2400"/>
            </a:b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943000"/>
            <a:ext cx="5307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adership style that requires the leader to set goals for managers and employees and then leave them alone to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96560" y="2097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2975400"/>
            <a:ext cx="3538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dele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93680" y="4289760"/>
            <a:ext cx="24433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elf-managed</a:t>
            </a:r>
            <a:br>
              <a:rPr sz="2400"/>
            </a:b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9840" y="4014720"/>
            <a:ext cx="6754680" cy="0"/>
          </a:xfrm>
          <a:prstGeom prst="line">
            <a:avLst/>
          </a:prstGeom>
          <a:ln w="25560">
            <a:solidFill>
              <a:srgbClr val="2340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16320" y="2581200"/>
            <a:ext cx="49626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managers and employees the power to run things and mak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9840" y="4287960"/>
            <a:ext cx="48672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roups that supervise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ypes of Leadership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eaders have different sty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eaders rule with strict discipline while others leave employees alone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Glencoe/McGraw-Hill</dc:creator>
  <dc:description/>
  <dc:language>en-US</dc:language>
  <cp:lastModifiedBy>Madeira Station</cp:lastModifiedBy>
  <dcterms:modified xsi:type="dcterms:W3CDTF">2007-02-22T21:29:39Z</dcterms:modified>
  <cp:revision>79</cp:revision>
  <dc:subject/>
  <dc:title>Introduction to Business</dc:title>
</cp:coreProperties>
</file>